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68F-96C0-493F-854F-7FD5E5B4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D9B-11A4-4D28-8A2F-72D15A7A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365-0E95-41FB-AA29-F5621D7E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FE48-C7E7-47F5-B705-EC443171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55D-9AC5-4F53-95CD-8FE0097C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D36-BDE4-4ED8-96D6-3407C618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1129-6181-4F72-A298-EE9503BC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768A-F918-4BFC-9CE6-0B5170CB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3AE-2289-4EA0-B527-ACA88899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146-E990-4BB4-B68C-238111DC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51B4-D1B4-4D68-BE4D-45A7D59C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E277-8BCD-4D27-9140-4FACF6C3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A33D-9B77-441B-B2B0-FF799E272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66680" y="2362320"/>
            <a:ext cx="6629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Gothic"/>
              </a:rPr>
              <a:t>Mi Cuarto Ideal</a:t>
            </a:r>
            <a:endParaRPr b="0" lang="en-US" sz="18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33720" y="1371600"/>
            <a:ext cx="1218960" cy="307080"/>
          </a:xfrm>
          <a:prstGeom prst="rect">
            <a:avLst/>
          </a:prstGeom>
          <a:solidFill>
            <a:srgbClr val="fdcbfd"/>
          </a:solidFill>
          <a:ln w="381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el tele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4343400"/>
            <a:ext cx="990720" cy="368280"/>
          </a:xfrm>
          <a:prstGeom prst="rect">
            <a:avLst/>
          </a:prstGeom>
          <a:solidFill>
            <a:srgbClr val="fdcbfd"/>
          </a:solidFill>
          <a:ln w="381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la ca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6172200"/>
            <a:ext cx="129564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54b1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la alfom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4343400"/>
            <a:ext cx="990720" cy="368280"/>
          </a:xfrm>
          <a:prstGeom prst="rect">
            <a:avLst/>
          </a:prstGeom>
          <a:solidFill>
            <a:srgbClr val="fdcbfd"/>
          </a:solidFill>
          <a:ln w="381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la ca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4038480"/>
            <a:ext cx="121932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54b1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la com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96080" y="2743200"/>
            <a:ext cx="1447920" cy="291960"/>
          </a:xfrm>
          <a:prstGeom prst="rect">
            <a:avLst/>
          </a:prstGeom>
          <a:solidFill>
            <a:srgbClr val="fdcbfd"/>
          </a:solidFill>
          <a:ln w="381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el despertad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27920" y="3914640"/>
            <a:ext cx="184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7391160" y="3048120"/>
            <a:ext cx="609480" cy="380880"/>
          </a:xfrm>
          <a:prstGeom prst="line">
            <a:avLst/>
          </a:prstGeom>
          <a:ln w="38160">
            <a:solidFill>
              <a:srgbClr val="791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304920"/>
            <a:ext cx="121932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54b1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los cuad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52280"/>
            <a:ext cx="1447560" cy="307080"/>
          </a:xfrm>
          <a:prstGeom prst="rect">
            <a:avLst/>
          </a:prstGeom>
          <a:solidFill>
            <a:srgbClr val="fdcbfd"/>
          </a:solidFill>
          <a:ln w="381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las lampa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657600"/>
            <a:ext cx="121896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54b1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el estan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380880"/>
            <a:ext cx="137160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54b1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las venta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2133720"/>
            <a:ext cx="761760" cy="276480"/>
          </a:xfrm>
          <a:prstGeom prst="rect">
            <a:avLst/>
          </a:prstGeom>
          <a:solidFill>
            <a:srgbClr val="fdcbfd"/>
          </a:solidFill>
          <a:ln w="381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l so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1880" y="6524640"/>
            <a:ext cx="762120" cy="307080"/>
          </a:xfrm>
          <a:prstGeom prst="rect">
            <a:avLst/>
          </a:prstGeom>
          <a:solidFill>
            <a:srgbClr val="fdcbfd"/>
          </a:solidFill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el pi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4:19:51Z</dcterms:created>
  <dc:creator>vrenda09</dc:creator>
  <dc:description/>
  <dc:language>en-US</dc:language>
  <cp:lastModifiedBy>Readington Township Board of Education</cp:lastModifiedBy>
  <dcterms:modified xsi:type="dcterms:W3CDTF">2009-05-12T16:30:21Z</dcterms:modified>
  <cp:revision>10</cp:revision>
  <dc:subject/>
  <dc:title>Slide 1</dc:title>
</cp:coreProperties>
</file>